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6252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39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089C-6339-4B30-9A52-A0B5E687A4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DAEC2-3B74-45C6-872C-8F4D676AB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87280" y="701640"/>
            <a:ext cx="461808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50400" y="4436640"/>
            <a:ext cx="508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is primer is intended for those who are unfamiliar with Python. Students who have used Python will skip this l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is presentation contains no additional notes. The instructor must be familiar with Python in order to be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69E39-7281-4099-8C59-A024C0C710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C7D55-757D-450F-AA48-29E09647C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D5808-1FE4-402F-B985-9A92411CC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265BF-A580-4F31-B7AA-53D791A1DC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99273-CB48-4379-8CBE-94B791DAB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DB484-255D-449D-8240-085BEA0846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F4D65-43E5-4027-9BEE-9094715853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A5C28-845D-4B0A-B906-E18A7C6A68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2706A-3840-4E82-98FC-35F8ACC75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58C96-CECB-45EF-B6D8-7AEB1FA1AF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B4A1-0503-4030-A02F-E5629F9DA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C8E3B-FC17-4C79-B03B-3CC7B1C1DF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2AF50-7960-418C-A4C7-7F09C7FC25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D00F-CFEF-4743-AD9C-0FB9C5F06F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60904-42C2-4489-A815-89B25B01E0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6DED-26C5-4691-96CE-85C70CA76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D3328-6A0A-462F-B3E1-5A2FF3CA24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49EA3-1084-4171-A084-552BA8A2C4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87280" y="701640"/>
            <a:ext cx="461808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A033D-FC76-4D5A-9846-3053D438D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65D4-2E6C-4DD9-BF18-D31F62A0A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51983-900E-48C4-BC43-CECBC96ABA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3B20-BB35-4253-94F2-DC706B9A4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68593-788B-4E0B-8866-CB8AE1509E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92ECC-A25A-4F2E-8E33-615DF97DB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2F23A-7AD6-443F-8FA2-FAB1C94F7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6680" indent="0" algn="ctr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7040" y="311040"/>
            <a:ext cx="6784920" cy="39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6680" algn="ctr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16992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16524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577960" cy="147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17800" cy="444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76320" y="6426360"/>
            <a:ext cx="2527200" cy="444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x.net/parnassus/" TargetMode="External"/><Relationship Id="rId2" Type="http://schemas.openxmlformats.org/officeDocument/2006/relationships/hyperlink" Target="http://www.python.org/" TargetMode="External"/><Relationship Id="rId3" Type="http://schemas.openxmlformats.org/officeDocument/2006/relationships/hyperlink" Target="http://www.wiley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4960" y="2144520"/>
            <a:ext cx="7532640" cy="14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ython Prim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69520" y="3909600"/>
            <a:ext cx="620244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From “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Python 2.1 Bibl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ve Brueck and Stephen Tann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ython in an Hour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ing with if-stat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146240" y="1954080"/>
            <a:ext cx="6235560" cy="2219400"/>
          </a:xfrm>
          <a:prstGeom prst="roundRect">
            <a:avLst>
              <a:gd name="adj" fmla="val 6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28400" y="2014560"/>
            <a:ext cx="584532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if (MyNumber % 2 == 0)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“MyNumber is Even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“MyNumber is very Od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060560" y="2122560"/>
            <a:ext cx="6649920" cy="2219400"/>
          </a:xfrm>
          <a:prstGeom prst="roundRect">
            <a:avLst>
              <a:gd name="adj" fmla="val 6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27160" y="1941480"/>
            <a:ext cx="664992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# Print out powers of 2 less than 200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x=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while (x&lt;2000)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x=x*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542880" y="2971800"/>
            <a:ext cx="8085240" cy="22860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2240" y="2019240"/>
            <a:ext cx="811044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 list is an ordered collection of zero or more elements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ements can be any object typ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rstList = [1, 3, 5, 7, 1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condList = [1, 3, 5, ”Hello World”] # mixed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rdList = [1, 3, SecondList] # can contain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urthList =[1, 3, ] # trailing commas are ok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fthList = [ ] # empt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85800" y="3429000"/>
            <a:ext cx="8085240" cy="1413000"/>
          </a:xfrm>
          <a:prstGeom prst="roundRect">
            <a:avLst>
              <a:gd name="adj" fmla="val 9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60240" y="2036520"/>
            <a:ext cx="8110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uples are similar to lists, but are not changeab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nclose tuples in parentheses instead of bracke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rstTuple = (“orange”, “red”, “blue”, “yellow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condTuple = () # empty tu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rdTuple = (14, ) #comma is required in this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ts are Or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30160" y="3025800"/>
            <a:ext cx="6443640" cy="262260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ach element has an index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ndex counting starts at '0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ColorList = [“orange”, “red”, “blue”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[0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'orange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[2] = “purpl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['orange', 'red', 'purple'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b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831960" y="3227400"/>
            <a:ext cx="7169040" cy="1008000"/>
          </a:xfrm>
          <a:prstGeom prst="roundRect">
            <a:avLst>
              <a:gd name="adj" fmla="val 139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600" y="2038320"/>
            <a:ext cx="75294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ccess a sublist with the syntax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listname[start:end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ListOne = [“I”, “am”, “a”, “happy”, “camper”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&gt;&gt;&gt; ListOne[0: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['I', 'am'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Notice the end range will grab up to but not including the range val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831960" y="3025800"/>
            <a:ext cx="6858000" cy="18162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82280" y="1834920"/>
            <a:ext cx="7529400" cy="34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Lists, tuples, and strings are </a:t>
            </a: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sequence types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equence types support indexed acces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word = “pi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PigLatinWord = word[1:]+word[0]+”ay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PigLatinWor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'igpay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ctionary is a python object that cross-references keys to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ys are immu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ues can be any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a-separated list of key-value pairs, enclosed in curly braces: {key:value, key:value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349200" y="2514600"/>
            <a:ext cx="8458200" cy="19224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8840" y="2076120"/>
            <a:ext cx="8458200" cy="27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 = {“bob”:”555-1212”, “fred”:”555-1234”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EmptyDict = {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[“bob”]  # find bob's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'555-1212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[“cindy”] = “555-4321”  # add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fe Dictionary Look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685800" y="2057400"/>
            <a:ext cx="7626240" cy="765000"/>
          </a:xfrm>
          <a:prstGeom prst="roundRect">
            <a:avLst>
              <a:gd name="adj" fmla="val 231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30160" y="3630600"/>
            <a:ext cx="5342040" cy="1008000"/>
          </a:xfrm>
          <a:prstGeom prst="roundRect">
            <a:avLst>
              <a:gd name="adj" fmla="val 139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04600" y="2036520"/>
            <a:ext cx="75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gt;&gt;&gt; PhoneDict[“sam”]  # will raise an exce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 better method is to use the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dictionary.get(key, default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gt;&gt;&gt; PhoneDict.get(“sam”, No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python.or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this points to everything el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ython 2.1 B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ublished by Hungry Minds, Inc (www.wiley.co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ten by Dave Brueck and Stephan T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532320" y="4840200"/>
            <a:ext cx="407340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1880" y="10080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14000" y="1008000"/>
            <a:ext cx="75294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Use the function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open(filename, mode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Mode is a string of typical valu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'w' for writing, 'r' for reading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hen use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close(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23880" y="2498760"/>
            <a:ext cx="727380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-Oriented Pyth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4600" y="1411200"/>
            <a:ext cx="7529400" cy="48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thon is object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piece of data in python is an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n abstraction of common data and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nstance of a class is a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efine a class with class Clas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urier New"/>
              </a:rPr>
              <a:t>&gt;&gt;&gt; class Fo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efine a child class with class ClassName(Par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urier New"/>
              </a:rPr>
              <a:t>&gt;&gt;&gt; class FooChild(Fo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reate an object with NewObject = ClassNam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lass constructor is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 __init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ython's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is similar to C++/Java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ll class attributes and methods are publ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mple Clas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415800" y="1008000"/>
            <a:ext cx="7898040" cy="5392800"/>
          </a:xfrm>
          <a:prstGeom prst="roundRect">
            <a:avLst>
              <a:gd name="adj" fmla="val 28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58720" y="1166760"/>
            <a:ext cx="74422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mport m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declare a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lass Poi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__init__(self,x,y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elf.x =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elf.y =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DistanceToPoint(self, OtherPoin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umOfSquares = ((self.x - OtherPoint.x)**2) +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(self.y - OtherPoint.y)**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math.sqrt(SumOfSqua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IsInsideCircle(self, center, radiu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self.DistanceToPoint(center) &lt; radiu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mple Class Example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1880" y="10764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mmended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bunch of nice, finished programs to tinker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vex.net/parnassus/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other 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python.o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thon 2.1 B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ve Brueck, Stephen T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ublished by Hungry Minds, In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wile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006800" y="1181160"/>
            <a:ext cx="4253040" cy="303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8840" y="125280"/>
            <a:ext cx="65818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abling the Script Tab from Cub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760" y="1017720"/>
            <a:ext cx="3797640" cy="35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Tools – Options – Layout – Cubit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“Show Script Ta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cript tab will allow direct entry of python comm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961920" y="4649760"/>
            <a:ext cx="648972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1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 to python directory, or include python in your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'python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'&gt;&gt;&gt;' is the python prom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&gt; print “hello worl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it interpreter with end-of-file charac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ntrl-Z on Windo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ntrl-I on Lin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4360" y="1039680"/>
            <a:ext cx="76788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culator &amp;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164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is Case-Sen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3164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ng a Function – Indentation Mat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6512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Control and Lo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558720" y="1035000"/>
            <a:ext cx="7689960" cy="4908600"/>
          </a:xfrm>
          <a:prstGeom prst="roundRect">
            <a:avLst>
              <a:gd name="adj" fmla="val 28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27200" y="1101600"/>
            <a:ext cx="7731000" cy="45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Find the prime numbers between a specified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Loop over the numbers in the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r PrimeTest in range(2, 12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Assume PrimeTest prime until proven otherw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0 is false, non-zero is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Prime = 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r TestFactor in range(2, (PrimeTest - 1)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a % b equals the remainder of a/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PrimeTest % TestFactor == 0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Prim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reak   # exit the inner most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isPrim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 Pri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eFinder.py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14360" y="14112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wen, Steven James</dc:creator>
  <dc:description/>
  <dc:language>en-US</dc:language>
  <cp:lastModifiedBy>Owen, Steven James</cp:lastModifiedBy>
  <dcterms:modified xsi:type="dcterms:W3CDTF">2013-07-17T13:57:40Z</dcterms:modified>
  <cp:revision>1</cp:revision>
  <dc:subject/>
  <dc:title>Python Primer</dc:title>
</cp:coreProperties>
</file>